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074-88D9-4D29-9C42-9A47E0D2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8AD-21D9-4302-AC54-E9DFC444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D34-0648-45C6-A140-7B525064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D5F-A6FB-4099-A4A1-1D5BE13A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0A4-4D96-4CD7-945A-A9DCB2D0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572-FFD1-45D9-94E0-0B592BFB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598-218C-4927-897D-88F65047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35C-04C0-498C-8FEB-6EBB6778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614-C941-446C-8BD9-CB3D49ED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86E-F483-4C36-9C51-B8E9C004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4D4-2029-48EC-84C1-2C27DBBE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CFE-7B9E-4B23-8805-9E38D84E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814CF23E-BE80-4287-B9A3-4B6DA94BAEC9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mmunityaccounts.ca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bc.ca/newsblogs/yourcommunity/2013/09/911-anniversary-advertising-fails-provoke-outrage.html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R150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ith Paul Tille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ek 1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943600" y="40384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Note: These slides contain my own material and Pearson Education Canada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ersonal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Opinion leaders affect your decision as does word-of-mouth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Reference Grou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You look to these people as a measure of your relative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amily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here the family is in their lifecycle affects their purchase decisio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Cla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division of society that you feel you fall i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ulture and Subcul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accepted set of values and beliefs and attitudes that exist amongst a single group in society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486400" y="5029200"/>
            <a:ext cx="35812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See </a:t>
            </a:r>
            <a:r>
              <a:rPr b="0" lang="en-CA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ommunityaccounts.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re is a great deal of influence on the CPDP by th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roduct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ri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way the product is Promo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lace where the product is sold or how it is deliver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Business 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re we being manipul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Promises vs re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ark side of our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s’ Imp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ing consumer behaviour is good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derstanding people/organizations to satisfy consumers’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nowledge and data about customer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to define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threats/opportunities to a br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96414305-97D8-4695-84CE-42D5CA300CE6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gmenting Consum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Segmen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milar consu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ple: “Heavy Users”</a:t>
            </a: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 fast-food industry or similar ethnic backgrou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Picture 13" descr="pho01-03"/>
          <p:cNvPicPr/>
          <p:nvPr/>
        </p:nvPicPr>
        <p:blipFill>
          <a:blip r:embed="rId1"/>
          <a:stretch/>
        </p:blipFill>
        <p:spPr>
          <a:xfrm>
            <a:off x="914400" y="3581280"/>
            <a:ext cx="7353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9D281C52-308A-421C-9667-9C3F61CE85DE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Demographic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mily Structure and Marital Sta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cial Class and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ni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Lifesty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sychograp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ay we feel about our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do in our spare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 = building lifetime relationships between brands and custo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gular interaction with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tabas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’s Impact on Consum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significantly influence the world and the information we lear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vertisements, stores, and products communicate and persua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ea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f Consump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often buy products not for what they do, but for what they me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vey image/person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ne our place in modern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us to form bonds with others who share similar prefer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efinition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study of the processes involv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actions that a person or group takes i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Purchasing,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Using and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Disposing of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s and servi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mental an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cial processes th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cee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follow these ac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satisfy needs and desir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and Relationship Ty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f-Concept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stalgic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epend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Global Consum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united by common devotion to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and name consumer go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vie st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isure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sure to understand similarities and differences of customers in various coun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ct of the Web on consumer behavio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4/7 shopping without leaving h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stantaneous access to ne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ndheld devices and wireless commun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2C e-comme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rtual brand commun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chat ro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8CBFA054-A86B-4FF3-925C-B248F7AA29D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 (Cont’d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red” Canadians spend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with friends/fami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shopping in sto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time working at home after ho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, many report that e-mail strengthens family 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9A164552-AEFA-4B78-BB79-A508E557BC90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and Rea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rred boundaries” between marketing efforts and “the real world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pular culture shaped by market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Ethics: rules of conduct that guide actions in the marketpl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“Right vs. Wrong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s among people, organizations, and cul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5105520" y="4762440"/>
            <a:ext cx="3238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MISSTEPS See:  </a:t>
            </a:r>
            <a:r>
              <a:rPr b="0" lang="en-CA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9/11 anniversary 'advertising fails' provoke out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Public Policy (cont’d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think better of products made by firms they feel behave eth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1207C258-EBEC-4E95-AAC3-F869BDA74559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ipulating Needs and Wa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tell people what they should w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pace vs. Consumersp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Marketers recommend ways to satisfy basic biological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7E3C7928-BE4A-46D3-A13C-E33960F95353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 foster materi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sponse: Products are designed to meet existing nee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conomics of Information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Discussion: do marketers have the ability to control our desires or the power to create need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s this situation changing as the Internet creates new ways to interact with companies?  If so, how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re Advertising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Necessary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B6A03CDB-C66B-4C52-9C18-C039BA9DAE82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 Marketers Promise Miracle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ertising promises “magical”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Advertisers simply do not know enough about people to manipulate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ilure rate for new products = 40% to 80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umer Behaviour is a “Process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61722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79c8"/>
                </a:solidFill>
                <a:latin typeface="Verdana"/>
              </a:rPr>
              <a:t>Figure 1.1 (Abridge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371600"/>
          <a:ext cx="8229600" cy="3805200"/>
        </p:xfrm>
        <a:graphic>
          <a:graphicData uri="http://schemas.openxmlformats.org/drawingml/2006/table">
            <a:tbl>
              <a:tblPr/>
              <a:tblGrid>
                <a:gridCol w="2362320"/>
                <a:gridCol w="2743200"/>
                <a:gridCol w="380880"/>
                <a:gridCol w="27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es a consumer decide about needing a produ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are consumer attitudes formed/chang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product acquisition a stressful or pleasant experien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ituational factors affect purchase decisi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product provide pleasure or perform function? How is product disposed of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etermines customer satisfaction and repurchase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Line 78"/>
          <p:cNvSpPr/>
          <p:nvPr/>
        </p:nvSpPr>
        <p:spPr>
          <a:xfrm>
            <a:off x="7342200" y="3657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79"/>
          <p:cNvSpPr/>
          <p:nvPr/>
        </p:nvSpPr>
        <p:spPr>
          <a:xfrm>
            <a:off x="4114800" y="367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80"/>
          <p:cNvSpPr/>
          <p:nvPr/>
        </p:nvSpPr>
        <p:spPr>
          <a:xfrm>
            <a:off x="7315200" y="2590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1"/>
          <p:cNvSpPr/>
          <p:nvPr/>
        </p:nvSpPr>
        <p:spPr>
          <a:xfrm>
            <a:off x="4114800" y="26607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83"/>
          <p:cNvSpPr/>
          <p:nvPr/>
        </p:nvSpPr>
        <p:spPr>
          <a:xfrm>
            <a:off x="5562720" y="2362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84"/>
          <p:cNvSpPr/>
          <p:nvPr/>
        </p:nvSpPr>
        <p:spPr>
          <a:xfrm>
            <a:off x="5410080" y="3409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85"/>
          <p:cNvSpPr/>
          <p:nvPr/>
        </p:nvSpPr>
        <p:spPr>
          <a:xfrm>
            <a:off x="5410080" y="4419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ublic Policy and Consume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welfare is protected at the Federal, Provincial and Municipal lev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n area of focu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ion from unfair business pract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 broad interest of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s depend on their government to regulate and polic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ervision may depend on political climate in a count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216C34F0-B964-4659-AE69-3A3C1AD37EF0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Activ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bus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n-Profit advocates “for the new social activist movement of the information age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y Nothing Day and TV Turnoff Wee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e Jam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ims to disrupt corporate efforts to dominate our cultural landscap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sumer “Dark Side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dict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mpuls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sumed Consum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egal Activit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ti-consump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9" descr="pho01-07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y of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isciplinary Influ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different perspectives/fiel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 Behaviour Employ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versities, manufacturers, museums, advertising agencies, and govern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spectives on Consumer Researc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i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the function of objects/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ate technology, sci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ld as an objective, rational, ordered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pre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importance of sympol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each construct our own mean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umption of products = diverse experi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tors in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: A person who identifies a need or desire, makes a purchase, and then disposes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chaser vs. user vs. influenc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ation/group as consum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Consumer Purchase Decision Process (CPDP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rceive a need: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roblem Recogni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ek information on how to fill the need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nformation Searc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(Internal sources &amp; External Source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ssessing the information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lternative Evalua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 (Form an Evoked Set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lect and Alternative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urchase Decis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fter Purchase feeling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ost-purchase Behaviou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Cognitive Dissonance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fluences on the CPD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s that come from the buying situation (physical and mental) that you find yourself in during the CPDP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inly internal, your mindset affects the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 that come from society and our social surrounding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ffect of the sellers efforts in manipulating the price, place, product and promotion on the consumers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se are influences on the CPDP that are related to the situation that the buyer finds him/herself in when making the buying decision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ituational Influ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urchase Task - Amount of effort require to buy a produc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Surroundings - The people around you when you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hysical Surrounding - The building/place you are in to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emporal Effects - Time related effec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tecedent State - Mood of the buy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Key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s impact a business’ marketing strate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Motiva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See Maslow’s Hierarchy of needs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sonality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cep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perception process - Selective perception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importance of risk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earning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ehavioural Learning - learned through experienc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Cognitive Learning - learned through mental processes such as thinking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rand Loyalty -  learned through experience or other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Values, Beliefs &amp; Attitud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Attitude formation &amp; changing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ifestyl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Mode of living - Self defined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5T09:49:08Z</dcterms:created>
  <dc:creator>Paul/Evelyn Tilley</dc:creator>
  <dc:description/>
  <dc:language>en-US</dc:language>
  <cp:lastModifiedBy>Tilley, Paul (C'ville)</cp:lastModifiedBy>
  <dcterms:modified xsi:type="dcterms:W3CDTF">2013-09-16T13:51:23Z</dcterms:modified>
  <cp:revision>12</cp:revision>
  <dc:subject/>
  <dc:title>Consumer Behavi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